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6.wmf" ContentType="image/x-wmf"/>
  <Override PartName="/ppt/media/image8.png" ContentType="image/png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51A-BECE-49B5-A3FB-25187EE7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233-D7DF-4FFB-A5A8-DCE1AB1B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3E8-2988-496D-84F6-5AEDFB87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C79-E9A3-46B2-A247-F2AD0E14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1F7-776B-4EB6-B8B3-6DB7F3E8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EFD-E301-42D1-BA18-EA34263B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5E9-7DF7-44BC-9794-8757D969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487-1626-4F5E-9059-4BA64A8A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21E-1EA9-4745-9BA3-1A9E559D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41E-8504-4C5F-810A-254C4BF8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C4B-06FB-4167-A261-F6716830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750-6B4E-44F1-8533-C9D7052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69A-9428-44BF-AFC7-08A5E54D2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Quinturq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Y: Chelsey Marco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43864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23623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is Quinturq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Quintura is a search engine that knows everything about the subject you are interested 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Quintura has all the answers for your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Quintura is your very own Librar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2133720" cy="19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4876920"/>
            <a:ext cx="30481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Quintura i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A visual map of tags or hints contextually to your search qu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With your search query, you can add or subtract tags with just a click of a mo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Certain subject that’s are you favorite or most recently searched subjec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ou can results removing search links or web sites from the results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Save the search file and you can share it with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Arial"/>
              </a:rPr>
              <a:t>You can monitor new information becoming available on the web related to your personal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217880" cy="1218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10699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Quin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7676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ere is the problem with other Web Se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re is no ability to manage the results by defining context or meaning. It’s not easy to build an advanced search because there's a lack of hints for your sea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re is not user-friendly visual management with a mouse cl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he documents are ranked by a search engine according to an algorithm. Specific to a search engine and not your inter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ver-ranked commercial and under-ranked non-commercial search resul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772400" y="914400"/>
            <a:ext cx="10098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What do people this about Quinturq.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the most recently undated and most useful of th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easy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does a great job of showing you the shape of a field of knowl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Quintura is useful for research or browsing based search where you are trying to find more information on a given topi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481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ompany.quintura.com/quintura/What_is_Quint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7120" y="1981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136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ope you enjoy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342900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22:55:19Z</dcterms:created>
  <dc:creator>Donnelly</dc:creator>
  <dc:description/>
  <dc:language>en-US</dc:language>
  <cp:lastModifiedBy>Donnelly</cp:lastModifiedBy>
  <dcterms:modified xsi:type="dcterms:W3CDTF">2010-11-12T00:19:18Z</dcterms:modified>
  <cp:revision>11</cp:revision>
  <dc:subject/>
  <dc:title>Slide 1</dc:title>
</cp:coreProperties>
</file>